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231-0001-47B4-965A-E4B1D198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0C5-FAD6-4D57-BA59-06538076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9BB-BC99-4B6A-B954-D61A8E07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427-32B9-452E-8123-1A606049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B3BA-9668-46C9-ADAC-033340FA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161B-25AE-4B0E-8248-A2AC20E5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B428-B9E9-453B-865B-FA02794B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1A30-2B23-4CE1-8A8B-6D719684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15B3-D0BC-4656-B51A-F5A760FE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6935-3250-4602-A02C-465A200A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0F38-FF8E-42B0-8C91-075190B5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882-FB56-4FA1-9F69-3D6FA772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30C3-1084-4BF2-90C8-201C67EC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46E6-4498-42DD-A4E3-5A76C721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92D2-64CE-44B2-A644-DB77D446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C968-60C9-426B-8FB1-58708B7B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EB77-11C2-4031-BE5B-BC514587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AB8-7974-426F-8EF5-6F3B8681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315-2D94-4E7C-ABDA-6FC1F854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F5F-06F0-445D-8826-BA7ED70B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230-5F97-441C-B460-8B390333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E04-CCAC-4DD9-87F9-40C0D25F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E79-CE49-4C15-A7F4-4647B535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E37-3ECE-4315-B26E-3EEA2251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1139-7246-43BC-8600-C1E7FC425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0826-587F-4D99-8425-78C0BE9A9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rindl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3160" y="41144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 1 Week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5" descr="Frindle"/>
          <p:cNvPicPr/>
          <p:nvPr/>
        </p:nvPicPr>
        <p:blipFill>
          <a:blip r:embed="rId1"/>
          <a:stretch/>
        </p:blipFill>
        <p:spPr>
          <a:xfrm>
            <a:off x="6172200" y="152280"/>
            <a:ext cx="282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bsolutely important;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ecessar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acher had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pu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being stri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acter trait as seen by othe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licy of behavi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9480" y="373392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aye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orshipp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Olympic athlet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tertained the possibil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d great respect 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33520" y="4419720"/>
            <a:ext cx="5410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lov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sent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playing in the outfie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cessar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nd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819520" y="3809880"/>
            <a:ext cx="3047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stoma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pand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fter eating that last cupcak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run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t bigg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057400" y="4495680"/>
            <a:ext cx="3505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s bar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cquain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the kid that was chosen as my part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st frie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mili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743200" y="43434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 said that our nex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ssignmen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uld be a piece of cak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sser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048120" y="4495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ach said I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uarante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pot on the team in middle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ertain to happ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ly a possibil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9480" y="373392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she follows the corr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cedu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arah’s cake will turn out delicio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tho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ke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24080" y="3733920"/>
            <a:ext cx="2667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04920" y="12193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04920" y="25909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04920" y="39625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04920" y="5410080"/>
            <a:ext cx="35812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419720" y="1219320"/>
            <a:ext cx="373356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648320" y="25909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648320" y="39625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495680" y="5410080"/>
            <a:ext cx="373392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00040" y="23623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omething assigned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pecially work to be do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038480" y="68580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352680" y="2362320"/>
            <a:ext cx="5029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people think and say the character of someone or something i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733920" y="609480"/>
            <a:ext cx="35812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ade aware;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nforme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ade larger;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ncreased in siz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733920" y="5335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ys of proceeding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ethods of doing someth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65724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ade certain that something would happen as a resul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id great honor and reverence t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886200" y="762120"/>
            <a:ext cx="373392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isa</cp:lastModifiedBy>
  <dcterms:modified xsi:type="dcterms:W3CDTF">2012-09-16T18:25:10Z</dcterms:modified>
  <cp:revision>5</cp:revision>
  <dc:subject/>
  <dc:title>Frindle Vocabulary Words</dc:title>
</cp:coreProperties>
</file>